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003-D217-40BF-990B-1CF1EAB4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234-35C9-4707-A124-77156D3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F07-780C-4DA3-8A54-FE329156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582-C903-4B77-9D03-8D0E8B5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899-0A8C-4FE1-AE92-A2EFBD9C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1FD-105D-4E11-8A53-A90A983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004-3734-40BC-8200-6239A918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8F6-D946-4823-B3E3-9E6675FC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F5E-00A2-4D97-96CC-97A077F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C0C-CF31-456A-B683-FEE62B8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F86-BD4A-4FEE-919A-84562DC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496-1D25-4675-A146-4082317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1EF0-18A5-45B4-A4BE-F8AD7564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p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t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Pa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m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4:21:27Z</dcterms:created>
  <dc:creator> </dc:creator>
  <dc:description/>
  <dc:language>en-US</dc:language>
  <cp:lastModifiedBy> </cp:lastModifiedBy>
  <dcterms:modified xsi:type="dcterms:W3CDTF">2007-04-17T14:50:04Z</dcterms:modified>
  <cp:revision>3</cp:revision>
  <dc:subject/>
  <dc:title>mat</dc:title>
</cp:coreProperties>
</file>